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8.jpeg" ContentType="image/jpeg"/>
  <Override PartName="/ppt/media/image13.jpeg" ContentType="image/jpeg"/>
  <Override PartName="/ppt/media/image28.wmf" ContentType="image/x-wmf"/>
  <Override PartName="/ppt/media/image35.jpeg" ContentType="image/jpeg"/>
  <Override PartName="/ppt/media/image10.png" ContentType="image/png"/>
  <Override PartName="/ppt/media/image12.jpeg" ContentType="image/jpeg"/>
  <Override PartName="/ppt/media/image34.png" ContentType="image/png"/>
  <Override PartName="/ppt/media/image23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6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8.wmf" ContentType="image/x-wmf"/>
  <Override PartName="/ppt/media/image2.jpeg" ContentType="image/jpeg"/>
  <Override PartName="/ppt/media/image1.png" ContentType="image/png"/>
  <Override PartName="/ppt/media/image15.jpeg" ContentType="image/jpeg"/>
  <Override PartName="/ppt/media/image26.wmf" ContentType="image/x-wmf"/>
  <Override PartName="/ppt/media/image16.png" ContentType="image/png"/>
  <Override PartName="/ppt/media/image20.wmf" ContentType="image/x-wmf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F8E9-2423-4C73-840F-E4531FB64FDF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252E-9A3A-408F-9738-2F87F280075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5CA7-BD93-4F5B-9143-C336E9C687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CAAA-F5C0-4162-872D-24DC8046992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7DF7-46FE-4F8B-9089-F6FA77F85D5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96A-1B0D-467B-B66C-6B67ECE6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525-5245-46F0-887F-3E2E0CED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66D3E-11A2-4D41-8E25-2CE512C6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D009C-8973-493F-AA97-F7091321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C0A20-A642-483C-8C7F-E1E066B3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324F1-D968-4F5D-B9BA-6459274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DA97A-0D09-4339-B491-68AD5994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D261C-D737-447A-A206-F7093836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198B2-7B4D-43BA-AE25-62B2D17C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C3C67-D082-4B35-8A92-0D9BF9EA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789C2-85A4-442E-B249-8190490B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7D18A-3216-4700-A05B-F01632D8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C67-E092-4214-9C70-BAF09D2E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50354-ABC3-4EDE-9261-529C0B8F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B4650-D45E-489E-9C05-96600993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E5FB4-D1F2-4329-9A51-F20E096E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6F23C-3977-4729-B8DA-6E7A475B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ADE81-F591-46CF-A519-4FA33212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D5DA4-D5E3-4FF6-8C83-515D1F2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3F858-9867-46A2-9E4F-1F9966B1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1A55C-16D8-493D-97D0-98B4D87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2B549-7BE3-48D9-A118-25538BD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43405-CCB0-41C9-B1B8-E8D02EFF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100-B59F-46AA-ACCE-6024E51C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8A7D1-2AA4-40B9-B57E-4E512E7A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C8EB5-AC8E-48E8-95B9-7050162A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9B92C-D12C-437C-8162-F36A09C6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8D15F-42C9-436C-B875-95E9287F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96A47-4909-48EC-84CE-ACCC031E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A154B-1FF9-4096-B78F-81D9C7E7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A70D9-6076-4023-872B-26F140BE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A4CA2-0BE0-440E-93CB-E55126E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1262-2F55-4904-A0F6-73E3A50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AD5F1-B834-4F3A-A68B-032FA94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A63A-089E-4F5D-A5E1-915EE0D1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E1DB7-5B5E-4964-AA81-9D6D2850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D60DC-385E-4335-9DD7-29E3724F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57AB0-63FE-47CF-B7BA-DD4B8FF8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BF040-18C7-42D7-B92D-E4933941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22D52-B485-41B7-807B-5F4331D9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7C79B-EF2A-4792-ADF5-B6E70EC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0D4F3-6C9F-4AB7-85A0-B88450C0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287CC-0243-4917-A1B0-56388719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5D7EB-427F-4317-8952-578A9C9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FFEA2-5220-4C08-9003-FFD38AB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710-EA55-4137-84E8-7E133064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01E01-FF9A-429A-B444-E30F0DD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A755B-B10F-4B66-915B-05D7898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5563B-AA88-43E2-8A1F-5A13792B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F994B-AB3A-4FFD-91E9-D72F365E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CEDA8-7570-4EFA-9DFA-0DFD8291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B0988-D70E-4851-8410-79C6233F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D6AD6-B83B-458A-A63C-0C8F2C28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29F68-C549-4B79-A6F0-FACD4C2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62DF8-407C-423D-B027-1389A271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EB0C9-D803-4B15-9A1B-CB22F5BB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4B7F-D057-4589-BB0E-1744F98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6701C-40C9-4022-AFD9-818DB009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8CF29-E50B-45FA-B471-0AF9C4A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C92CD-5413-497C-ABAB-E1F356A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0D924-2769-41E3-85BF-8034A1F9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3BCF8-EF75-40ED-BA20-FBA45E0C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69728-6EFC-45E9-8757-7CDBB1DB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0C80F-8FB6-4F00-A624-34072A15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E6C0-F495-4FD0-BC6D-8C05C67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D842-7B53-4AC9-B9CB-D9EA01C8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539D-C09F-4E9C-93BF-7F61E929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A93F-61B1-45D8-91C4-4397A38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569-923D-4C17-84A4-2EDB338A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0E6B-B6D8-455B-9BBC-32A5FC9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C13B-3454-4BF4-A7CB-AB285F4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2BF2-1CED-4951-AB24-CBA73EDA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D8CE-63E6-4736-ABCB-83DDA7FD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5F35-CBB2-475E-AA06-69F5EBF1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ED49-9F66-48A8-B541-AC4DEB7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8E16-FD93-426A-B3BD-19DD562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EE4D-F7B5-49AF-9EB9-2916A7E5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6283-C982-4785-A825-2C42B8C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B411-6685-45F7-9E18-2B1DFC93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341-F27B-46CB-A5CD-F90B929D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82B2-51C1-4EBC-8CF7-2EBCB755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8E27-DDC7-4AC7-B227-6054B6C1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51BA-0418-4C00-8F97-9C329468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F04F-C679-4CED-88BB-6C8AEBB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1847-42BB-41FF-974A-D8276989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6BA6-3E98-4C4C-8115-BF4F3D2D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EE7A-2E9F-454E-9AFB-4539D8B1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47AC4-BC28-4B71-BF14-E29CB369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A7A5-FF5F-496F-8E83-81B6BBBD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6A54-C854-4DAD-B036-E000D835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9D7-854D-4A5B-98B0-B5A7CDA2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3C88-1183-4084-A174-6EA4726C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EC71-E01C-4F9B-8050-B882638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285C-D460-4689-828C-29E08936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EA21-76A5-4204-8921-C182385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0655-80A5-4261-9808-494D887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2744-6CCD-40B7-93AC-45DA394C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4E9C-25F2-4E27-9A88-A12CD4B1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9611-D485-4BCA-9877-968C2988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B9A2-EC3B-4190-A5B1-C483C751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1D88-C894-4442-B910-6B297E78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1D2-6E11-4BEB-BA39-665707ED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F3ED-53A1-4969-97FB-4646755B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D0148-C7C8-42F7-93F1-21921AED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088D8-38CE-48B0-A057-8F38FC36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9B09D-2D97-40A0-B799-806EC383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D5FFB-3F2F-4B43-8B70-161F369A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0C258-A1E0-4815-9F13-860D030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0C41-2106-45C5-AA1F-7839F8F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9CB4-B8FD-4202-9EC6-A04F0D8B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16020-FD5A-4BBB-8C68-7613E1E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997F-5949-4BA6-ACBC-FF1C6517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FAD-5AC2-4782-A77B-721F0E2E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C76C-A732-40AF-8EA3-7DB588B5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8DDF-5E84-4FB7-9A27-82358048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D6B30-A0D6-468A-AA3D-F88B002C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94D2E-68D0-47C1-AF48-3D16EB66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46F7E-5681-4115-9C25-AF393967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9B7C2-B509-4481-9407-946217B1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79E71-8F66-4A8C-83B1-5B04D71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2FF32-F06A-47C3-8595-0F07A91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C3DD-0256-4E3D-B64B-0F7860CB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5C182-99BA-48CE-9720-6B6D7DB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4AA-43DF-4707-A539-1B02B72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BC1A-98CC-4446-9CA1-61FD6041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CCF8F-3F0A-4B0C-A896-52873792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FACE1-A950-4331-862B-BCAAA86F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FE99D-B59C-4B4D-A92F-7A92103B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2E181-D028-4607-BFFA-E42B03A6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4627-B44E-4AFE-84C8-6EC2EF39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15933-B1ED-400E-8120-3C808D20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DA5B-34EC-4F9D-A9A1-A00916C6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CA819-CB8A-4FB7-9CC1-F9CDAF2D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5C5EF-A3DB-4608-B281-4B7C14C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2E2-2ED2-4116-9050-E58F925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F757-14D8-4FB7-85BC-BC11676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DB655-5F9B-4087-AB1C-FC92BB8D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7F878-2B3F-4BCE-B1FC-C4D4609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83B1-2E96-464A-BD46-81EC21B0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5B9C4-1303-4AFE-B731-35D1ABC3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76D39-0070-471D-BB1E-937F75C3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CDD12-02B1-42A3-8456-572DDA0B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E30F5-C564-480B-94E0-C2AA6FC6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63A07-C67C-4F61-9FDA-D1644257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D865-73D7-4180-9E0D-E6F712FE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ECE-0459-4BFF-BAFC-ED5D0D26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57B1E-0372-4375-8A67-71C61520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46380-02C6-41CA-9D32-4A953B1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4265A-60ED-4306-B0C0-1D9F47D1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32915-8BFB-4A2F-8038-C87C56A0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0018-C7E4-4100-A59A-D1F9EFF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BF26E-27B1-4733-95BB-ECAF434D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8069B-7D25-4D3F-9948-7F70E694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C53A5-8134-4A1E-AD41-7BA50A6B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47BF-DFFF-4CE9-A477-F9311B0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4F2B5-678C-4E56-9ACC-B07CD9C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0796-D570-40DC-8162-1A7167527D6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B936-013C-4B86-8DE9-B57BF5D043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896C-3911-4053-B781-18BD8B5E25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808A-30A8-43A1-8E4D-809233D56F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EA8B-A737-48AA-9E8E-9F14841340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E2D-DB8F-4326-A52E-C7EC176CA7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8077-E927-4F8E-8242-B04EBA3EE8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9039-6275-4BB4-BEA3-833E6C0C88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A1B-C3A6-4528-9229-D09CCE4F86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EA81-12D0-482A-A81A-12DBAE4E30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0EF6-FBE5-4DB7-B941-8AC1D4FFF6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D211-D3DF-4513-979C-76ADDB8CA6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3BF-32B1-4987-A5B8-34112A55D4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541" name="Text Box 5"/>
          <p:cNvSpPr/>
          <p:nvPr/>
        </p:nvSpPr>
        <p:spPr>
          <a:xfrm>
            <a:off x="142920" y="1214280"/>
            <a:ext cx="882000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HIDRATOS de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alato-aspar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1"/>
          <p:cNvGrpSpPr/>
          <p:nvPr/>
        </p:nvGrpSpPr>
        <p:grpSpPr>
          <a:xfrm>
            <a:off x="0" y="685800"/>
            <a:ext cx="5580000" cy="2238480"/>
            <a:chOff x="0" y="685800"/>
            <a:chExt cx="5580000" cy="2238480"/>
          </a:xfrm>
        </p:grpSpPr>
        <p:graphicFrame>
          <p:nvGraphicFramePr>
            <p:cNvPr id="660" name="Object 2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Text Box 3"/>
            <p:cNvSpPr/>
            <p:nvPr/>
          </p:nvSpPr>
          <p:spPr>
            <a:xfrm>
              <a:off x="557280" y="6858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0" y="3357720"/>
            <a:ext cx="5796000" cy="2950920"/>
            <a:chOff x="0" y="3357720"/>
            <a:chExt cx="5796000" cy="2950920"/>
          </a:xfrm>
        </p:grpSpPr>
        <p:graphicFrame>
          <p:nvGraphicFramePr>
            <p:cNvPr id="664" name="Object 6"/>
            <p:cNvGraphicFramePr/>
            <p:nvPr/>
          </p:nvGraphicFramePr>
          <p:xfrm>
            <a:off x="0" y="407988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07988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6" name="Text Box 7"/>
            <p:cNvSpPr/>
            <p:nvPr/>
          </p:nvSpPr>
          <p:spPr>
            <a:xfrm>
              <a:off x="534960" y="335772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pectina o Gluc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23"/>
          <p:cNvGrpSpPr/>
          <p:nvPr/>
        </p:nvGrpSpPr>
        <p:grpSpPr>
          <a:xfrm>
            <a:off x="6929280" y="3214800"/>
            <a:ext cx="1873440" cy="1225800"/>
            <a:chOff x="6929280" y="3214800"/>
            <a:chExt cx="1873440" cy="1225800"/>
          </a:xfrm>
        </p:grpSpPr>
        <p:graphicFrame>
          <p:nvGraphicFramePr>
            <p:cNvPr id="668" name="Object 16"/>
            <p:cNvGraphicFramePr/>
            <p:nvPr/>
          </p:nvGraphicFramePr>
          <p:xfrm>
            <a:off x="6929280" y="3214800"/>
            <a:ext cx="1873440" cy="89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9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29280" y="3214800"/>
                      <a:ext cx="1873440" cy="89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0" name="Text Box 17"/>
            <p:cNvSpPr/>
            <p:nvPr/>
          </p:nvSpPr>
          <p:spPr>
            <a:xfrm>
              <a:off x="7365600" y="4041720"/>
              <a:ext cx="112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Text Box 18"/>
          <p:cNvSpPr/>
          <p:nvPr/>
        </p:nvSpPr>
        <p:spPr>
          <a:xfrm>
            <a:off x="7214760" y="454356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Maltotr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7109280" y="504828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lig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0"/>
          <p:cNvSpPr/>
          <p:nvPr/>
        </p:nvSpPr>
        <p:spPr>
          <a:xfrm>
            <a:off x="324000" y="44280"/>
            <a:ext cx="8351640" cy="62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4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Digestión del Almidón y/o del Glucógeno 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(en la bo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14"/>
          <p:cNvGrpSpPr/>
          <p:nvPr/>
        </p:nvGrpSpPr>
        <p:grpSpPr>
          <a:xfrm>
            <a:off x="4788000" y="2565360"/>
            <a:ext cx="2015640" cy="2087640"/>
            <a:chOff x="4788000" y="2565360"/>
            <a:chExt cx="2015640" cy="2087640"/>
          </a:xfrm>
        </p:grpSpPr>
        <p:sp>
          <p:nvSpPr>
            <p:cNvPr id="675" name="Line 11"/>
            <p:cNvSpPr/>
            <p:nvPr/>
          </p:nvSpPr>
          <p:spPr>
            <a:xfrm>
              <a:off x="5221080" y="2565360"/>
              <a:ext cx="718920" cy="1079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2"/>
            <p:cNvSpPr/>
            <p:nvPr/>
          </p:nvSpPr>
          <p:spPr>
            <a:xfrm flipV="1">
              <a:off x="4788000" y="3645000"/>
              <a:ext cx="115236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5940360" y="3645000"/>
              <a:ext cx="863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 Box 15"/>
          <p:cNvSpPr/>
          <p:nvPr/>
        </p:nvSpPr>
        <p:spPr>
          <a:xfrm>
            <a:off x="5580000" y="2671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milasa salival </a:t>
            </a: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(bo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27"/>
          <p:cNvGrpSpPr/>
          <p:nvPr/>
        </p:nvGrpSpPr>
        <p:grpSpPr>
          <a:xfrm>
            <a:off x="5613120" y="3645000"/>
            <a:ext cx="903600" cy="911880"/>
            <a:chOff x="5613120" y="3645000"/>
            <a:chExt cx="903600" cy="911880"/>
          </a:xfrm>
        </p:grpSpPr>
        <p:sp>
          <p:nvSpPr>
            <p:cNvPr id="680" name="Arc 25"/>
            <p:cNvSpPr/>
            <p:nvPr/>
          </p:nvSpPr>
          <p:spPr>
            <a:xfrm flipH="1">
              <a:off x="6084720" y="3645000"/>
              <a:ext cx="432000" cy="50328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6"/>
            <p:cNvSpPr/>
            <p:nvPr/>
          </p:nvSpPr>
          <p:spPr>
            <a:xfrm>
              <a:off x="5613120" y="4116240"/>
              <a:ext cx="77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n H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Line 17"/>
          <p:cNvSpPr/>
          <p:nvPr/>
        </p:nvSpPr>
        <p:spPr>
          <a:xfrm>
            <a:off x="1500120" y="14288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000680" y="14288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1"/>
          <p:cNvSpPr/>
          <p:nvPr/>
        </p:nvSpPr>
        <p:spPr>
          <a:xfrm>
            <a:off x="1643040" y="50007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"/>
          <p:cNvSpPr/>
          <p:nvPr/>
        </p:nvSpPr>
        <p:spPr>
          <a:xfrm>
            <a:off x="785880" y="39290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1"/>
          <p:cNvSpPr/>
          <p:nvPr/>
        </p:nvSpPr>
        <p:spPr>
          <a:xfrm>
            <a:off x="5572080" y="50007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1"/>
          <p:cNvGrpSpPr/>
          <p:nvPr/>
        </p:nvGrpSpPr>
        <p:grpSpPr>
          <a:xfrm>
            <a:off x="4643280" y="2565360"/>
            <a:ext cx="2368800" cy="2085480"/>
            <a:chOff x="4643280" y="2565360"/>
            <a:chExt cx="2368800" cy="2085480"/>
          </a:xfrm>
        </p:grpSpPr>
        <p:grpSp>
          <p:nvGrpSpPr>
            <p:cNvPr id="688" name="Group 2"/>
            <p:cNvGrpSpPr/>
            <p:nvPr/>
          </p:nvGrpSpPr>
          <p:grpSpPr>
            <a:xfrm>
              <a:off x="4643280" y="2565360"/>
              <a:ext cx="2014200" cy="2085480"/>
              <a:chOff x="4643280" y="2565360"/>
              <a:chExt cx="2014200" cy="2085480"/>
            </a:xfrm>
          </p:grpSpPr>
          <p:sp>
            <p:nvSpPr>
              <p:cNvPr id="689" name="Line 3"/>
              <p:cNvSpPr/>
              <p:nvPr/>
            </p:nvSpPr>
            <p:spPr>
              <a:xfrm>
                <a:off x="5076000" y="2565360"/>
                <a:ext cx="718560" cy="107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4"/>
              <p:cNvSpPr/>
              <p:nvPr/>
            </p:nvSpPr>
            <p:spPr>
              <a:xfrm flipV="1">
                <a:off x="4643280" y="3641400"/>
                <a:ext cx="1151640" cy="1009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5"/>
              <p:cNvSpPr/>
              <p:nvPr/>
            </p:nvSpPr>
            <p:spPr>
              <a:xfrm>
                <a:off x="5794920" y="3643200"/>
                <a:ext cx="8625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Text Box 6"/>
            <p:cNvSpPr/>
            <p:nvPr/>
          </p:nvSpPr>
          <p:spPr>
            <a:xfrm>
              <a:off x="5586120" y="2708280"/>
              <a:ext cx="142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Am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pancre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7"/>
          <p:cNvGrpSpPr/>
          <p:nvPr/>
        </p:nvGrpSpPr>
        <p:grpSpPr>
          <a:xfrm>
            <a:off x="6886440" y="3286080"/>
            <a:ext cx="2252520" cy="2845800"/>
            <a:chOff x="6886440" y="3286080"/>
            <a:chExt cx="2252520" cy="2845800"/>
          </a:xfrm>
        </p:grpSpPr>
        <p:graphicFrame>
          <p:nvGraphicFramePr>
            <p:cNvPr id="694" name="Object 8"/>
            <p:cNvGraphicFramePr/>
            <p:nvPr/>
          </p:nvGraphicFramePr>
          <p:xfrm>
            <a:off x="6886440" y="3286080"/>
            <a:ext cx="187344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86440" y="328608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6" name="Text Box 9"/>
            <p:cNvSpPr/>
            <p:nvPr/>
          </p:nvSpPr>
          <p:spPr>
            <a:xfrm>
              <a:off x="7319880" y="4113360"/>
              <a:ext cx="106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0"/>
            <p:cNvSpPr/>
            <p:nvPr/>
          </p:nvSpPr>
          <p:spPr>
            <a:xfrm>
              <a:off x="7211880" y="4818240"/>
              <a:ext cx="192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tri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Dextrinas lím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70c0"/>
                  </a:solidFill>
                  <a:latin typeface="Times New Roman"/>
                </a:rPr>
                <a:t>Glucosa lib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1"/>
          <p:cNvGrpSpPr/>
          <p:nvPr/>
        </p:nvGrpSpPr>
        <p:grpSpPr>
          <a:xfrm>
            <a:off x="0" y="1052640"/>
            <a:ext cx="5829120" cy="5034960"/>
            <a:chOff x="0" y="1052640"/>
            <a:chExt cx="5829120" cy="5034960"/>
          </a:xfrm>
        </p:grpSpPr>
        <p:graphicFrame>
          <p:nvGraphicFramePr>
            <p:cNvPr id="699" name="Object 12"/>
            <p:cNvGraphicFramePr/>
            <p:nvPr/>
          </p:nvGraphicFramePr>
          <p:xfrm>
            <a:off x="0" y="1052640"/>
            <a:ext cx="5578560" cy="16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0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052640"/>
                      <a:ext cx="5578560" cy="169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1" name="Object 13"/>
            <p:cNvGraphicFramePr/>
            <p:nvPr/>
          </p:nvGraphicFramePr>
          <p:xfrm>
            <a:off x="34560" y="3859560"/>
            <a:ext cx="5794560" cy="22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02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60" y="3859560"/>
                      <a:ext cx="5794560" cy="22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3" name="Text Box 14"/>
            <p:cNvSpPr/>
            <p:nvPr/>
          </p:nvSpPr>
          <p:spPr>
            <a:xfrm>
              <a:off x="606960" y="314064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Oligosacár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5"/>
          <p:cNvSpPr/>
          <p:nvPr/>
        </p:nvSpPr>
        <p:spPr>
          <a:xfrm>
            <a:off x="1285920" y="163440"/>
            <a:ext cx="68310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Digestión del Almidón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(en int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7"/>
          <p:cNvSpPr/>
          <p:nvPr/>
        </p:nvSpPr>
        <p:spPr>
          <a:xfrm>
            <a:off x="1403280" y="1052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8"/>
          <p:cNvSpPr/>
          <p:nvPr/>
        </p:nvSpPr>
        <p:spPr>
          <a:xfrm>
            <a:off x="4067280" y="1125360"/>
            <a:ext cx="0" cy="72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9"/>
          <p:cNvSpPr/>
          <p:nvPr/>
        </p:nvSpPr>
        <p:spPr>
          <a:xfrm>
            <a:off x="2050920" y="35733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0"/>
          <p:cNvSpPr/>
          <p:nvPr/>
        </p:nvSpPr>
        <p:spPr>
          <a:xfrm>
            <a:off x="4214880" y="47862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1"/>
          <p:cNvSpPr/>
          <p:nvPr/>
        </p:nvSpPr>
        <p:spPr>
          <a:xfrm>
            <a:off x="1619280" y="4724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5492520" y="3881520"/>
            <a:ext cx="13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-dextr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3"/>
          <p:cNvSpPr/>
          <p:nvPr/>
        </p:nvSpPr>
        <p:spPr>
          <a:xfrm flipH="1">
            <a:off x="3419280" y="4214880"/>
            <a:ext cx="2081160" cy="6541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16 Elipse"/>
          <p:cNvSpPr/>
          <p:nvPr/>
        </p:nvSpPr>
        <p:spPr>
          <a:xfrm>
            <a:off x="1979640" y="3714840"/>
            <a:ext cx="2143080" cy="25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18 Conector curvado"/>
          <p:cNvCxnSpPr/>
          <p:nvPr/>
        </p:nvCxnSpPr>
        <p:spPr>
          <a:xfrm rot="10800000">
            <a:off x="3923640" y="4214880"/>
            <a:ext cx="3291480" cy="118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4"/>
          <p:cNvSpPr/>
          <p:nvPr/>
        </p:nvSpPr>
        <p:spPr>
          <a:xfrm>
            <a:off x="250920" y="160200"/>
            <a:ext cx="864216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Disacaridasas</a:t>
            </a: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(en intest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46"/>
          <p:cNvGrpSpPr/>
          <p:nvPr/>
        </p:nvGrpSpPr>
        <p:grpSpPr>
          <a:xfrm>
            <a:off x="1114560" y="835200"/>
            <a:ext cx="6410160" cy="1659240"/>
            <a:chOff x="1114560" y="835200"/>
            <a:chExt cx="6410160" cy="1659240"/>
          </a:xfrm>
        </p:grpSpPr>
        <p:grpSp>
          <p:nvGrpSpPr>
            <p:cNvPr id="716" name="Group 33"/>
            <p:cNvGrpSpPr/>
            <p:nvPr/>
          </p:nvGrpSpPr>
          <p:grpSpPr>
            <a:xfrm>
              <a:off x="1114560" y="835200"/>
              <a:ext cx="6410160" cy="1659240"/>
              <a:chOff x="1114560" y="835200"/>
              <a:chExt cx="6410160" cy="1659240"/>
            </a:xfrm>
          </p:grpSpPr>
          <p:graphicFrame>
            <p:nvGraphicFramePr>
              <p:cNvPr id="717" name="Object 5"/>
              <p:cNvGraphicFramePr/>
              <p:nvPr/>
            </p:nvGraphicFramePr>
            <p:xfrm>
              <a:off x="1114560" y="893880"/>
              <a:ext cx="2736720" cy="130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8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4560" y="893880"/>
                        <a:ext cx="2736720" cy="13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9" name="Text Box 6"/>
              <p:cNvSpPr/>
              <p:nvPr/>
            </p:nvSpPr>
            <p:spPr>
              <a:xfrm>
                <a:off x="1959480" y="2095560"/>
                <a:ext cx="99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Mal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7"/>
              <p:cNvSpPr/>
              <p:nvPr/>
            </p:nvSpPr>
            <p:spPr>
              <a:xfrm>
                <a:off x="4067280" y="1555560"/>
                <a:ext cx="1584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8"/>
              <p:cNvSpPr/>
              <p:nvPr/>
            </p:nvSpPr>
            <p:spPr>
              <a:xfrm>
                <a:off x="4419000" y="1065240"/>
                <a:ext cx="137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Mal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22" name="Object 9"/>
              <p:cNvGraphicFramePr/>
              <p:nvPr/>
            </p:nvGraphicFramePr>
            <p:xfrm>
              <a:off x="6100920" y="835200"/>
              <a:ext cx="1423800" cy="1439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23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100920" y="83520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24" name="Text Box 10"/>
              <p:cNvSpPr/>
              <p:nvPr/>
            </p:nvSpPr>
            <p:spPr>
              <a:xfrm>
                <a:off x="5731920" y="140472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11"/>
              <p:cNvSpPr/>
              <p:nvPr/>
            </p:nvSpPr>
            <p:spPr>
              <a:xfrm>
                <a:off x="6343560" y="202248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37"/>
            <p:cNvGrpSpPr/>
            <p:nvPr/>
          </p:nvGrpSpPr>
          <p:grpSpPr>
            <a:xfrm>
              <a:off x="4227840" y="1430640"/>
              <a:ext cx="796680" cy="840240"/>
              <a:chOff x="4227840" y="1430640"/>
              <a:chExt cx="796680" cy="840240"/>
            </a:xfrm>
          </p:grpSpPr>
          <p:sp>
            <p:nvSpPr>
              <p:cNvPr id="727" name="Arc 35"/>
              <p:cNvSpPr/>
              <p:nvPr/>
            </p:nvSpPr>
            <p:spPr>
              <a:xfrm flipH="1" flipV="1" rot="6966600">
                <a:off x="4499280" y="155556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36"/>
              <p:cNvSpPr/>
              <p:nvPr/>
            </p:nvSpPr>
            <p:spPr>
              <a:xfrm>
                <a:off x="4227840" y="186516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45"/>
          <p:cNvGrpSpPr/>
          <p:nvPr/>
        </p:nvGrpSpPr>
        <p:grpSpPr>
          <a:xfrm>
            <a:off x="971640" y="2759040"/>
            <a:ext cx="7993080" cy="1608480"/>
            <a:chOff x="971640" y="2759040"/>
            <a:chExt cx="7993080" cy="1608480"/>
          </a:xfrm>
        </p:grpSpPr>
        <p:grpSp>
          <p:nvGrpSpPr>
            <p:cNvPr id="730" name="Group 31"/>
            <p:cNvGrpSpPr/>
            <p:nvPr/>
          </p:nvGrpSpPr>
          <p:grpSpPr>
            <a:xfrm>
              <a:off x="971640" y="2759040"/>
              <a:ext cx="7993080" cy="1608480"/>
              <a:chOff x="971640" y="2759040"/>
              <a:chExt cx="7993080" cy="1608480"/>
            </a:xfrm>
          </p:grpSpPr>
          <p:graphicFrame>
            <p:nvGraphicFramePr>
              <p:cNvPr id="731" name="Object 22"/>
              <p:cNvGraphicFramePr/>
              <p:nvPr/>
            </p:nvGraphicFramePr>
            <p:xfrm>
              <a:off x="971640" y="2759040"/>
              <a:ext cx="2819160" cy="1245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2" name="Object 2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71640" y="275904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3" name="Text Box 23"/>
              <p:cNvSpPr/>
              <p:nvPr/>
            </p:nvSpPr>
            <p:spPr>
              <a:xfrm>
                <a:off x="1870560" y="386064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24"/>
              <p:cNvSpPr/>
              <p:nvPr/>
            </p:nvSpPr>
            <p:spPr>
              <a:xfrm>
                <a:off x="3780000" y="343044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Text Box 25"/>
              <p:cNvSpPr/>
              <p:nvPr/>
            </p:nvSpPr>
            <p:spPr>
              <a:xfrm>
                <a:off x="4002120" y="293976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Sacar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6" name="Object 26"/>
              <p:cNvGraphicFramePr/>
              <p:nvPr/>
            </p:nvGraphicFramePr>
            <p:xfrm>
              <a:off x="5435640" y="2781000"/>
              <a:ext cx="1423800" cy="144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37" name="Object 2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35640" y="278100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8" name="Text Box 27"/>
              <p:cNvSpPr/>
              <p:nvPr/>
            </p:nvSpPr>
            <p:spPr>
              <a:xfrm>
                <a:off x="5678280" y="396864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28"/>
              <p:cNvSpPr/>
              <p:nvPr/>
            </p:nvSpPr>
            <p:spPr>
              <a:xfrm>
                <a:off x="6891480" y="318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40" name="Object 29"/>
              <p:cNvGraphicFramePr/>
              <p:nvPr/>
            </p:nvGraphicFramePr>
            <p:xfrm>
              <a:off x="7164360" y="2997000"/>
              <a:ext cx="1800360" cy="109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41" name="Object 2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4360" y="299700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2" name="Text Box 30"/>
              <p:cNvSpPr/>
              <p:nvPr/>
            </p:nvSpPr>
            <p:spPr>
              <a:xfrm>
                <a:off x="7422480" y="39686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38"/>
            <p:cNvGrpSpPr/>
            <p:nvPr/>
          </p:nvGrpSpPr>
          <p:grpSpPr>
            <a:xfrm>
              <a:off x="4246920" y="3304080"/>
              <a:ext cx="796680" cy="840240"/>
              <a:chOff x="4246920" y="3304080"/>
              <a:chExt cx="796680" cy="840240"/>
            </a:xfrm>
          </p:grpSpPr>
          <p:sp>
            <p:nvSpPr>
              <p:cNvPr id="744" name="Arc 39"/>
              <p:cNvSpPr/>
              <p:nvPr/>
            </p:nvSpPr>
            <p:spPr>
              <a:xfrm flipH="1" flipV="1" rot="6966600">
                <a:off x="4518360" y="342900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4246920" y="373860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44"/>
          <p:cNvGrpSpPr/>
          <p:nvPr/>
        </p:nvGrpSpPr>
        <p:grpSpPr>
          <a:xfrm>
            <a:off x="1116000" y="4508640"/>
            <a:ext cx="7559640" cy="1586160"/>
            <a:chOff x="1116000" y="4508640"/>
            <a:chExt cx="7559640" cy="1586160"/>
          </a:xfrm>
        </p:grpSpPr>
        <p:grpSp>
          <p:nvGrpSpPr>
            <p:cNvPr id="747" name="Group 32"/>
            <p:cNvGrpSpPr/>
            <p:nvPr/>
          </p:nvGrpSpPr>
          <p:grpSpPr>
            <a:xfrm>
              <a:off x="1116000" y="4508640"/>
              <a:ext cx="7559640" cy="1586160"/>
              <a:chOff x="1116000" y="4508640"/>
              <a:chExt cx="7559640" cy="1586160"/>
            </a:xfrm>
          </p:grpSpPr>
          <p:graphicFrame>
            <p:nvGraphicFramePr>
              <p:cNvPr id="748" name="Object 12"/>
              <p:cNvGraphicFramePr/>
              <p:nvPr/>
            </p:nvGraphicFramePr>
            <p:xfrm>
              <a:off x="1116000" y="4581720"/>
              <a:ext cx="2497320" cy="1193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49" name="Object 1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116000" y="4581720"/>
                        <a:ext cx="249732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0" name="Text Box 13"/>
              <p:cNvSpPr/>
              <p:nvPr/>
            </p:nvSpPr>
            <p:spPr>
              <a:xfrm>
                <a:off x="1864440" y="5695920"/>
                <a:ext cx="97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14"/>
              <p:cNvSpPr/>
              <p:nvPr/>
            </p:nvSpPr>
            <p:spPr>
              <a:xfrm>
                <a:off x="3780000" y="515808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15"/>
              <p:cNvSpPr/>
              <p:nvPr/>
            </p:nvSpPr>
            <p:spPr>
              <a:xfrm>
                <a:off x="4129920" y="4667400"/>
                <a:ext cx="12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Lac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53" name="Object 16"/>
              <p:cNvGraphicFramePr/>
              <p:nvPr/>
            </p:nvGraphicFramePr>
            <p:xfrm>
              <a:off x="5435640" y="4508640"/>
              <a:ext cx="1423800" cy="144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54" name="Object 1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5640" y="450864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5" name="Text Box 18"/>
              <p:cNvSpPr/>
              <p:nvPr/>
            </p:nvSpPr>
            <p:spPr>
              <a:xfrm>
                <a:off x="5678280" y="5695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Text Box 19"/>
              <p:cNvSpPr/>
              <p:nvPr/>
            </p:nvSpPr>
            <p:spPr>
              <a:xfrm>
                <a:off x="6891480" y="491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57" name="Object 20"/>
              <p:cNvGraphicFramePr/>
              <p:nvPr/>
            </p:nvGraphicFramePr>
            <p:xfrm>
              <a:off x="7236000" y="4532400"/>
              <a:ext cx="1439640" cy="1273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758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36000" y="453240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9" name="Text Box 21"/>
              <p:cNvSpPr/>
              <p:nvPr/>
            </p:nvSpPr>
            <p:spPr>
              <a:xfrm>
                <a:off x="7344000" y="569592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41"/>
            <p:cNvGrpSpPr/>
            <p:nvPr/>
          </p:nvGrpSpPr>
          <p:grpSpPr>
            <a:xfrm>
              <a:off x="4154760" y="5031000"/>
              <a:ext cx="796680" cy="840240"/>
              <a:chOff x="4154760" y="5031000"/>
              <a:chExt cx="796680" cy="840240"/>
            </a:xfrm>
          </p:grpSpPr>
          <p:sp>
            <p:nvSpPr>
              <p:cNvPr id="761" name="Arc 42"/>
              <p:cNvSpPr/>
              <p:nvPr/>
            </p:nvSpPr>
            <p:spPr>
              <a:xfrm flipH="1" flipV="1" rot="6966600">
                <a:off x="4426200" y="51559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43"/>
              <p:cNvSpPr/>
              <p:nvPr/>
            </p:nvSpPr>
            <p:spPr>
              <a:xfrm>
                <a:off x="4154760" y="546552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3" name=""/>
          <p:cNvGraphicFramePr/>
          <p:nvPr/>
        </p:nvGraphicFramePr>
        <p:xfrm>
          <a:off x="857160" y="714240"/>
          <a:ext cx="7715520" cy="5911920"/>
        </p:xfrm>
        <a:graphic>
          <a:graphicData uri="http://schemas.openxmlformats.org/drawingml/2006/table">
            <a:tbl>
              <a:tblPr/>
              <a:tblGrid>
                <a:gridCol w="1916280"/>
                <a:gridCol w="1798560"/>
                <a:gridCol w="4000680"/>
              </a:tblGrid>
              <a:tr h="828720">
                <a:tc gridSpan="3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ón de Carbohidra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tracto gastro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amilasa sal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ptiali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ción muy breve: se inactiva al pH ácido del estóm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060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milasa pancre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uo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, maltotriosa, dextrinas lím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785880" y="857160"/>
          <a:ext cx="7786800" cy="5270760"/>
        </p:xfrm>
        <a:graphic>
          <a:graphicData uri="http://schemas.openxmlformats.org/drawingml/2006/table">
            <a:tbl>
              <a:tblPr/>
              <a:tblGrid>
                <a:gridCol w="1014480"/>
                <a:gridCol w="1014120"/>
                <a:gridCol w="2028960"/>
                <a:gridCol w="3729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1,6-glicosid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dextri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ó isomalt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glucosas li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6-glicosídic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acari-d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Mal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Maltosa, P: Gluc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Sacar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Sacarosa, P: Glucosa y Fru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2-,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,1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ac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Lactosa, P: Glucosa y Gala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1812960" y="37944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de los Hidratos de Carbono (H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7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http://www3.gobiernodecanarias.org/medusa/ecoescuela/recursoseducativos/files/2011/02/Intestino.jpg"/>
          <p:cNvPicPr/>
          <p:nvPr/>
        </p:nvPicPr>
        <p:blipFill>
          <a:blip r:embed="rId1"/>
          <a:stretch/>
        </p:blipFill>
        <p:spPr>
          <a:xfrm>
            <a:off x="193680" y="0"/>
            <a:ext cx="3592440" cy="25146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" descr="http://image.slidesharecdn.com/sndromedemalabsorcinintestinal-131102002441-phpapp02/95/sndrome-de-malabsorcin-intestinal-4-638.jpg?cb=1383351899"/>
          <p:cNvPicPr/>
          <p:nvPr/>
        </p:nvPicPr>
        <p:blipFill>
          <a:blip r:embed="rId2"/>
          <a:stretch/>
        </p:blipFill>
        <p:spPr>
          <a:xfrm>
            <a:off x="2643120" y="2455920"/>
            <a:ext cx="6434280" cy="4830840"/>
          </a:xfrm>
          <a:prstGeom prst="rect">
            <a:avLst/>
          </a:prstGeom>
          <a:ln w="0">
            <a:noFill/>
          </a:ln>
        </p:spPr>
      </p:pic>
      <p:sp>
        <p:nvSpPr>
          <p:cNvPr id="774" name="3 CuadroTexto"/>
          <p:cNvSpPr/>
          <p:nvPr/>
        </p:nvSpPr>
        <p:spPr>
          <a:xfrm>
            <a:off x="3714840" y="71280"/>
            <a:ext cx="5286240" cy="137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BSORCIÓN DE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Principal ór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INTESTINO DELGADO-MUCOSA INTESTINAL 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9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ómo se absorben los monosacáridos productos de la digest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2 CuadroTexto"/>
          <p:cNvSpPr/>
          <p:nvPr/>
        </p:nvSpPr>
        <p:spPr>
          <a:xfrm>
            <a:off x="6684480" y="1928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cord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3 CuadroTexto"/>
          <p:cNvSpPr/>
          <p:nvPr/>
        </p:nvSpPr>
        <p:spPr>
          <a:xfrm>
            <a:off x="451080" y="2500200"/>
            <a:ext cx="772452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CESOS DE TRANSPORTE DE SOL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 TRAVÉS DE MEMBRANAS BI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TRANSPORTE A TRAVÉS DE MEMBRANAS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según la presencia de trans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179280" y="2060640"/>
            <a:ext cx="30974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b050"/>
                </a:solidFill>
                <a:latin typeface="Calibri"/>
              </a:rPr>
              <a:t>PROCESO N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SI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(DIFUSIÓN PAS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6"/>
          <p:cNvSpPr/>
          <p:nvPr/>
        </p:nvSpPr>
        <p:spPr>
          <a:xfrm>
            <a:off x="179280" y="4941720"/>
            <a:ext cx="302436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O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3851280" y="1617840"/>
            <a:ext cx="52927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o requiere transpor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favor de gradien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través de p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ones, gases, agua,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0"/>
          <p:cNvSpPr/>
          <p:nvPr/>
        </p:nvSpPr>
        <p:spPr>
          <a:xfrm>
            <a:off x="3419640" y="1341360"/>
            <a:ext cx="647640" cy="2808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1"/>
          <p:cNvSpPr/>
          <p:nvPr/>
        </p:nvSpPr>
        <p:spPr>
          <a:xfrm>
            <a:off x="3747960" y="50562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ifusión Facilitad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 a favor de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e Activo: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ontra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2"/>
          <p:cNvSpPr/>
          <p:nvPr/>
        </p:nvSpPr>
        <p:spPr>
          <a:xfrm>
            <a:off x="3276720" y="4292640"/>
            <a:ext cx="718920" cy="2565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3357720" y="2075040"/>
            <a:ext cx="5798880" cy="3925800"/>
          </a:xfrm>
          <a:prstGeom prst="rect">
            <a:avLst/>
          </a:prstGeom>
          <a:ln w="0">
            <a:noFill/>
          </a:ln>
        </p:spPr>
      </p:pic>
      <p:sp>
        <p:nvSpPr>
          <p:cNvPr id="786" name="21 CuadroTexto"/>
          <p:cNvSpPr/>
          <p:nvPr/>
        </p:nvSpPr>
        <p:spPr>
          <a:xfrm>
            <a:off x="5143680" y="63039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daptado de Lehninger A. L., 4ª Edic. Cap 11 , 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4 CuadroTexto"/>
          <p:cNvSpPr/>
          <p:nvPr/>
        </p:nvSpPr>
        <p:spPr>
          <a:xfrm>
            <a:off x="298080" y="285840"/>
            <a:ext cx="41929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Transpor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-número de solutos trans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-dirección d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807200" y="379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714240" y="423396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</a:t>
            </a:r>
            <a:r>
              <a:rPr b="1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571680" y="157176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Digestión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Moléculas complejas son escindidas en sustancias más simples, que el organismo pueda incorporar y utili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5 CuadroTexto"/>
          <p:cNvSpPr/>
          <p:nvPr/>
        </p:nvSpPr>
        <p:spPr>
          <a:xfrm>
            <a:off x="642960" y="329724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Oval 4"/>
          <p:cNvSpPr/>
          <p:nvPr/>
        </p:nvSpPr>
        <p:spPr>
          <a:xfrm>
            <a:off x="39600" y="4566600"/>
            <a:ext cx="438948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149400" y="1841760"/>
            <a:ext cx="370836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4500720" y="4429080"/>
            <a:ext cx="4643280" cy="230364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 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erg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tabólica (A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3924360" y="1643040"/>
            <a:ext cx="5219640" cy="1937880"/>
          </a:xfrm>
          <a:prstGeom prst="rect">
            <a:avLst/>
          </a:prstGeom>
          <a:solidFill>
            <a:srgbClr val="b7dee8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 fav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necesita energía meta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6 CuadroTexto"/>
          <p:cNvSpPr/>
          <p:nvPr/>
        </p:nvSpPr>
        <p:spPr>
          <a:xfrm>
            <a:off x="270360" y="0"/>
            <a:ext cx="3753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Transportador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l ga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643720" cy="3595680"/>
          </a:xfrm>
          <a:prstGeom prst="rect">
            <a:avLst/>
          </a:prstGeom>
          <a:ln w="0">
            <a:noFill/>
          </a:ln>
        </p:spPr>
      </p:pic>
      <p:sp>
        <p:nvSpPr>
          <p:cNvPr id="794" name="4 CuadroTexto"/>
          <p:cNvSpPr/>
          <p:nvPr/>
        </p:nvSpPr>
        <p:spPr>
          <a:xfrm>
            <a:off x="0" y="142920"/>
            <a:ext cx="8354880" cy="77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Transport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las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La energía de hidrólisis de ATP impul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transporte del Soluto contra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b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Secund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Se establece un gradiente de un ión (X)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nsporte contra gradiente (Activo Prima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El movimiento del ión a favor de su gradiente, da la ener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ara el transporte de un segundo Soluto (S) contra su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5" descr=""/>
          <p:cNvPicPr/>
          <p:nvPr/>
        </p:nvPicPr>
        <p:blipFill>
          <a:blip r:embed="rId1"/>
          <a:stretch/>
        </p:blipFill>
        <p:spPr>
          <a:xfrm>
            <a:off x="1143000" y="428760"/>
            <a:ext cx="7128000" cy="6218280"/>
          </a:xfrm>
          <a:prstGeom prst="rect">
            <a:avLst/>
          </a:prstGeom>
          <a:ln w="47520">
            <a:solidFill>
              <a:srgbClr val="0000ff"/>
            </a:solidFill>
            <a:miter/>
          </a:ln>
        </p:spPr>
      </p:pic>
      <p:sp>
        <p:nvSpPr>
          <p:cNvPr id="796" name="Text Box 6"/>
          <p:cNvSpPr/>
          <p:nvPr/>
        </p:nvSpPr>
        <p:spPr>
          <a:xfrm>
            <a:off x="1486080" y="5178600"/>
            <a:ext cx="180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G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979920" y="35002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8"/>
          <p:cNvSpPr/>
          <p:nvPr/>
        </p:nvSpPr>
        <p:spPr>
          <a:xfrm>
            <a:off x="7101360" y="41464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944640" y="397188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1"/>
          <p:cNvSpPr/>
          <p:nvPr/>
        </p:nvSpPr>
        <p:spPr>
          <a:xfrm>
            <a:off x="7137360" y="44355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1455840" y="148428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4"/>
          <p:cNvSpPr/>
          <p:nvPr/>
        </p:nvSpPr>
        <p:spPr>
          <a:xfrm>
            <a:off x="1979640" y="1928880"/>
            <a:ext cx="504720" cy="36036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862080" y="1171440"/>
            <a:ext cx="100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GLU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6"/>
          <p:cNvSpPr/>
          <p:nvPr/>
        </p:nvSpPr>
        <p:spPr>
          <a:xfrm>
            <a:off x="4570560" y="1568520"/>
            <a:ext cx="433080" cy="43164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7"/>
          <p:cNvSpPr/>
          <p:nvPr/>
        </p:nvSpPr>
        <p:spPr>
          <a:xfrm>
            <a:off x="3276720" y="1700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8"/>
          <p:cNvSpPr/>
          <p:nvPr/>
        </p:nvSpPr>
        <p:spPr>
          <a:xfrm>
            <a:off x="2843280" y="1484280"/>
            <a:ext cx="504720" cy="432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9"/>
          <p:cNvSpPr/>
          <p:nvPr/>
        </p:nvSpPr>
        <p:spPr>
          <a:xfrm>
            <a:off x="5292720" y="1700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5867280" y="1557360"/>
            <a:ext cx="576360" cy="43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6537600" y="148284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4"/>
          <p:cNvSpPr/>
          <p:nvPr/>
        </p:nvSpPr>
        <p:spPr>
          <a:xfrm>
            <a:off x="6445080" y="1414440"/>
            <a:ext cx="165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5"/>
          <p:cNvSpPr/>
          <p:nvPr/>
        </p:nvSpPr>
        <p:spPr>
          <a:xfrm>
            <a:off x="7020000" y="4076640"/>
            <a:ext cx="187308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6"/>
          <p:cNvSpPr/>
          <p:nvPr/>
        </p:nvSpPr>
        <p:spPr>
          <a:xfrm>
            <a:off x="1403280" y="8445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uz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7"/>
          <p:cNvSpPr/>
          <p:nvPr/>
        </p:nvSpPr>
        <p:spPr>
          <a:xfrm>
            <a:off x="1229040" y="2872080"/>
            <a:ext cx="118044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9"/>
          <p:cNvSpPr/>
          <p:nvPr/>
        </p:nvSpPr>
        <p:spPr>
          <a:xfrm flipV="1">
            <a:off x="2484360" y="4149720"/>
            <a:ext cx="574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30"/>
          <p:cNvSpPr/>
          <p:nvPr/>
        </p:nvSpPr>
        <p:spPr>
          <a:xfrm>
            <a:off x="7020000" y="2814480"/>
            <a:ext cx="129708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31"/>
          <p:cNvSpPr/>
          <p:nvPr/>
        </p:nvSpPr>
        <p:spPr>
          <a:xfrm>
            <a:off x="6929280" y="2256120"/>
            <a:ext cx="919440" cy="6498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2 K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2"/>
          <p:cNvSpPr/>
          <p:nvPr/>
        </p:nvSpPr>
        <p:spPr>
          <a:xfrm>
            <a:off x="4788000" y="3500280"/>
            <a:ext cx="1871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3"/>
          <p:cNvSpPr/>
          <p:nvPr/>
        </p:nvSpPr>
        <p:spPr>
          <a:xfrm>
            <a:off x="6072120" y="4929120"/>
            <a:ext cx="180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4"/>
          <p:cNvSpPr/>
          <p:nvPr/>
        </p:nvSpPr>
        <p:spPr>
          <a:xfrm>
            <a:off x="6227640" y="4365720"/>
            <a:ext cx="720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35"/>
          <p:cNvSpPr/>
          <p:nvPr/>
        </p:nvSpPr>
        <p:spPr>
          <a:xfrm>
            <a:off x="6516720" y="361944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Na</a:t>
            </a:r>
            <a:r>
              <a:rPr b="1" i="1" lang="es-ES_tradnl" sz="24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i="1" lang="es-ES_tradnl" sz="24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6"/>
          <p:cNvSpPr/>
          <p:nvPr/>
        </p:nvSpPr>
        <p:spPr>
          <a:xfrm>
            <a:off x="6300720" y="3645000"/>
            <a:ext cx="28728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37"/>
          <p:cNvSpPr/>
          <p:nvPr/>
        </p:nvSpPr>
        <p:spPr>
          <a:xfrm>
            <a:off x="2124000" y="443700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8"/>
          <p:cNvSpPr/>
          <p:nvPr/>
        </p:nvSpPr>
        <p:spPr>
          <a:xfrm>
            <a:off x="4859280" y="4000680"/>
            <a:ext cx="647640" cy="433080"/>
          </a:xfrm>
          <a:prstGeom prst="hexagon">
            <a:avLst>
              <a:gd name="adj" fmla="val 37386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39"/>
          <p:cNvSpPr/>
          <p:nvPr/>
        </p:nvSpPr>
        <p:spPr>
          <a:xfrm>
            <a:off x="5580000" y="4221000"/>
            <a:ext cx="1152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0"/>
          <p:cNvSpPr/>
          <p:nvPr/>
        </p:nvSpPr>
        <p:spPr>
          <a:xfrm flipH="1">
            <a:off x="3348000" y="1341360"/>
            <a:ext cx="43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41"/>
          <p:cNvSpPr/>
          <p:nvPr/>
        </p:nvSpPr>
        <p:spPr>
          <a:xfrm>
            <a:off x="4932360" y="1341360"/>
            <a:ext cx="79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42"/>
          <p:cNvSpPr/>
          <p:nvPr/>
        </p:nvSpPr>
        <p:spPr>
          <a:xfrm>
            <a:off x="8096040" y="2636640"/>
            <a:ext cx="936720" cy="649800"/>
          </a:xfrm>
          <a:prstGeom prst="ellipse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3"/>
          <p:cNvSpPr/>
          <p:nvPr/>
        </p:nvSpPr>
        <p:spPr>
          <a:xfrm>
            <a:off x="8532720" y="3213000"/>
            <a:ext cx="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1 CuadroTexto"/>
          <p:cNvSpPr/>
          <p:nvPr/>
        </p:nvSpPr>
        <p:spPr>
          <a:xfrm>
            <a:off x="369360" y="1428840"/>
            <a:ext cx="105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i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facil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2 CuadroTexto"/>
          <p:cNvSpPr/>
          <p:nvPr/>
        </p:nvSpPr>
        <p:spPr>
          <a:xfrm>
            <a:off x="1560240" y="5657760"/>
            <a:ext cx="2108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Transport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Activ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ependiente de 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39 CuadroTexto"/>
          <p:cNvSpPr/>
          <p:nvPr/>
        </p:nvSpPr>
        <p:spPr>
          <a:xfrm>
            <a:off x="6217920" y="785880"/>
            <a:ext cx="81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"/>
          <p:cNvSpPr/>
          <p:nvPr/>
        </p:nvSpPr>
        <p:spPr>
          <a:xfrm>
            <a:off x="866880" y="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¿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ó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mo se absorben las unidades de monosacári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42 CuadroTexto"/>
          <p:cNvSpPr/>
          <p:nvPr/>
        </p:nvSpPr>
        <p:spPr>
          <a:xfrm>
            <a:off x="6005880" y="5572080"/>
            <a:ext cx="209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43 CuadroTexto"/>
          <p:cNvSpPr/>
          <p:nvPr/>
        </p:nvSpPr>
        <p:spPr>
          <a:xfrm>
            <a:off x="6005880" y="5429160"/>
            <a:ext cx="209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4645080" y="6330960"/>
            <a:ext cx="29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traída y modificada del Lehninger, 4a. 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7 Imagen" descr="ingreso glucos a la célula.jpg"/>
          <p:cNvPicPr/>
          <p:nvPr/>
        </p:nvPicPr>
        <p:blipFill>
          <a:blip r:embed="rId1"/>
          <a:stretch/>
        </p:blipFill>
        <p:spPr>
          <a:xfrm>
            <a:off x="714240" y="1285920"/>
            <a:ext cx="6858000" cy="485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7" name="2 CuadroTexto"/>
          <p:cNvSpPr/>
          <p:nvPr/>
        </p:nvSpPr>
        <p:spPr>
          <a:xfrm>
            <a:off x="1245600" y="285840"/>
            <a:ext cx="55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Representación esquemática del mecanism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o-transporte Na</a:t>
            </a:r>
            <a:r>
              <a:rPr b="1" lang="es-AR" sz="18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/glucosa en el epitelio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3 CuadroTexto"/>
          <p:cNvSpPr/>
          <p:nvPr/>
        </p:nvSpPr>
        <p:spPr>
          <a:xfrm>
            <a:off x="5450040" y="6286680"/>
            <a:ext cx="30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GuíaTP Qca. Biológica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Una vez en la sangre, la Glucosa es distribu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a los distintos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Ingresa a las células por difusión facilitada utilizando diferentes transportadores GL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GLUT: familia de proteínas integrales de membrana, hay descriptos 14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1"/>
          <p:cNvSpPr/>
          <p:nvPr/>
        </p:nvSpPr>
        <p:spPr>
          <a:xfrm>
            <a:off x="250920" y="160200"/>
            <a:ext cx="8569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adores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6"/>
          <p:cNvSpPr/>
          <p:nvPr/>
        </p:nvSpPr>
        <p:spPr>
          <a:xfrm>
            <a:off x="3822840" y="610704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ador de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Fru en enter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"/>
          <p:cNvSpPr/>
          <p:nvPr/>
        </p:nvSpPr>
        <p:spPr>
          <a:xfrm>
            <a:off x="468360" y="60562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GLU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4"/>
          <p:cNvSpPr/>
          <p:nvPr/>
        </p:nvSpPr>
        <p:spPr>
          <a:xfrm>
            <a:off x="3822840" y="4867200"/>
            <a:ext cx="4927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ej.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Adiposo y músculo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squelético y cardía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00000"/>
                </a:solidFill>
                <a:latin typeface="Calibri"/>
              </a:rPr>
              <a:t>Es sensible a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3"/>
          <p:cNvSpPr/>
          <p:nvPr/>
        </p:nvSpPr>
        <p:spPr>
          <a:xfrm>
            <a:off x="468360" y="4867200"/>
            <a:ext cx="33544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LU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2"/>
          <p:cNvSpPr/>
          <p:nvPr/>
        </p:nvSpPr>
        <p:spPr>
          <a:xfrm>
            <a:off x="3822840" y="406548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Ppal. Transportador en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erebro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y nervios perifé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468360" y="40654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GLU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3822840" y="2533680"/>
            <a:ext cx="49273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membrana basolateral del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epitelio intestinal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, túbulos renales,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hepatocitos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y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élulas </a:t>
            </a:r>
            <a:r>
              <a:rPr b="0" lang="el-GR" sz="2400" spc="-1" strike="noStrike">
                <a:solidFill>
                  <a:srgbClr val="c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pancreá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68360" y="2533680"/>
            <a:ext cx="33544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3822840" y="1214280"/>
            <a:ext cx="49273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todos los tejidos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el f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adultos: en GR, fibroblastos y células endotel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7"/>
          <p:cNvSpPr/>
          <p:nvPr/>
        </p:nvSpPr>
        <p:spPr>
          <a:xfrm>
            <a:off x="468360" y="1071720"/>
            <a:ext cx="3354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GLU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9"/>
          <p:cNvSpPr/>
          <p:nvPr/>
        </p:nvSpPr>
        <p:spPr>
          <a:xfrm>
            <a:off x="468360" y="105264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2"/>
          <p:cNvSpPr/>
          <p:nvPr/>
        </p:nvSpPr>
        <p:spPr>
          <a:xfrm>
            <a:off x="468360" y="406548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33"/>
          <p:cNvSpPr/>
          <p:nvPr/>
        </p:nvSpPr>
        <p:spPr>
          <a:xfrm>
            <a:off x="468360" y="486720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4"/>
          <p:cNvSpPr/>
          <p:nvPr/>
        </p:nvSpPr>
        <p:spPr>
          <a:xfrm>
            <a:off x="468360" y="610704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6"/>
          <p:cNvSpPr/>
          <p:nvPr/>
        </p:nvSpPr>
        <p:spPr>
          <a:xfrm>
            <a:off x="468360" y="688500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7"/>
          <p:cNvSpPr/>
          <p:nvPr/>
        </p:nvSpPr>
        <p:spPr>
          <a:xfrm>
            <a:off x="468360" y="981000"/>
            <a:ext cx="0" cy="5904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8"/>
          <p:cNvSpPr/>
          <p:nvPr/>
        </p:nvSpPr>
        <p:spPr>
          <a:xfrm>
            <a:off x="3851280" y="105264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39"/>
          <p:cNvSpPr/>
          <p:nvPr/>
        </p:nvSpPr>
        <p:spPr>
          <a:xfrm>
            <a:off x="8748720" y="1052640"/>
            <a:ext cx="0" cy="5805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8"/>
          <p:cNvSpPr/>
          <p:nvPr/>
        </p:nvSpPr>
        <p:spPr>
          <a:xfrm>
            <a:off x="577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98"/>
          <p:cNvSpPr/>
          <p:nvPr/>
        </p:nvSpPr>
        <p:spPr>
          <a:xfrm>
            <a:off x="468360" y="256536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6158160" cy="6022800"/>
          </a:xfrm>
          <a:prstGeom prst="rect">
            <a:avLst/>
          </a:prstGeom>
          <a:ln w="0">
            <a:noFill/>
          </a:ln>
        </p:spPr>
      </p:pic>
      <p:sp>
        <p:nvSpPr>
          <p:cNvPr id="862" name="2 CuadroTexto"/>
          <p:cNvSpPr/>
          <p:nvPr/>
        </p:nvSpPr>
        <p:spPr>
          <a:xfrm>
            <a:off x="3219480" y="2286000"/>
            <a:ext cx="79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"/>
              </a:rPr>
              <a:t>-am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3 Rectángulo redondeado"/>
          <p:cNvSpPr/>
          <p:nvPr/>
        </p:nvSpPr>
        <p:spPr>
          <a:xfrm>
            <a:off x="3214800" y="2286000"/>
            <a:ext cx="7858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8 Rectángulo redondeado"/>
          <p:cNvSpPr/>
          <p:nvPr/>
        </p:nvSpPr>
        <p:spPr>
          <a:xfrm>
            <a:off x="5214960" y="42861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9 Rectángulo redondeado"/>
          <p:cNvSpPr/>
          <p:nvPr/>
        </p:nvSpPr>
        <p:spPr>
          <a:xfrm>
            <a:off x="4071960" y="4286160"/>
            <a:ext cx="10717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10 Rectángulo redondeado"/>
          <p:cNvSpPr/>
          <p:nvPr/>
        </p:nvSpPr>
        <p:spPr>
          <a:xfrm>
            <a:off x="2857680" y="4500720"/>
            <a:ext cx="92844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12 Rectángulo redondeado"/>
          <p:cNvSpPr/>
          <p:nvPr/>
        </p:nvSpPr>
        <p:spPr>
          <a:xfrm>
            <a:off x="6000840" y="42861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13 CuadroTexto"/>
          <p:cNvSpPr/>
          <p:nvPr/>
        </p:nvSpPr>
        <p:spPr>
          <a:xfrm>
            <a:off x="714240" y="71280"/>
            <a:ext cx="800100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Esquema general de la digestión de Hidrat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14 Rectángulo redondeado"/>
          <p:cNvSpPr/>
          <p:nvPr/>
        </p:nvSpPr>
        <p:spPr>
          <a:xfrm>
            <a:off x="1785960" y="2071800"/>
            <a:ext cx="10717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15 Rectángulo redondeado"/>
          <p:cNvSpPr/>
          <p:nvPr/>
        </p:nvSpPr>
        <p:spPr>
          <a:xfrm>
            <a:off x="1785960" y="5143680"/>
            <a:ext cx="9288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16 Rectángulo redondeado"/>
          <p:cNvSpPr/>
          <p:nvPr/>
        </p:nvSpPr>
        <p:spPr>
          <a:xfrm>
            <a:off x="1785960" y="3786120"/>
            <a:ext cx="92880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17 Rectángulo redondeado"/>
          <p:cNvSpPr/>
          <p:nvPr/>
        </p:nvSpPr>
        <p:spPr>
          <a:xfrm>
            <a:off x="3000240" y="5715000"/>
            <a:ext cx="41436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18 CuadroTexto"/>
          <p:cNvSpPr/>
          <p:nvPr/>
        </p:nvSpPr>
        <p:spPr>
          <a:xfrm>
            <a:off x="7148160" y="6429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sumiendo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9 CuadroTexto"/>
          <p:cNvSpPr/>
          <p:nvPr/>
        </p:nvSpPr>
        <p:spPr>
          <a:xfrm>
            <a:off x="7049520" y="14292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66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8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Vía de degradación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catabólica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naeróbica de la glucosa, fructosa, galactosa hasta piruva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= 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Vía de síntesis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nabólica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Vía </a:t>
            </a: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nabólica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 de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Vía 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catabólica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 del glucógeno para producir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8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30280" y="11592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de los Hidratos de Carbono (H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4 CuadroTexto"/>
          <p:cNvSpPr/>
          <p:nvPr/>
        </p:nvSpPr>
        <p:spPr>
          <a:xfrm>
            <a:off x="571680" y="134136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Hidratos de Carb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HC en sustancias absorbibles en el tracto intestinal: desdoblamiento mecánico y químico de los 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que son los </a:t>
            </a:r>
            <a:r>
              <a:rPr b="1" i="1" lang="es-AR" sz="2000" spc="-1" strike="noStrike">
                <a:solidFill>
                  <a:srgbClr val="000099"/>
                </a:solidFill>
                <a:latin typeface="Calibri"/>
              </a:rPr>
              <a:t>monosacár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sto ocurre por la intervención de enzimas conten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los jugos diges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642960" y="3841920"/>
            <a:ext cx="771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desde la luz intestinal 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Implica procesos de transporte a través de membr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9 CuadroTexto"/>
          <p:cNvSpPr/>
          <p:nvPr/>
        </p:nvSpPr>
        <p:spPr>
          <a:xfrm>
            <a:off x="6985440" y="142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Apliqu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14 Flecha abajo"/>
          <p:cNvSpPr/>
          <p:nvPr/>
        </p:nvSpPr>
        <p:spPr>
          <a:xfrm>
            <a:off x="4500720" y="33606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16 Flecha abajo"/>
          <p:cNvSpPr/>
          <p:nvPr/>
        </p:nvSpPr>
        <p:spPr>
          <a:xfrm>
            <a:off x="4510080" y="51609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provechamiento de los glúcidos para obtención de energía y/o para la síntesis de compuestos 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3"/>
          <p:cNvGrpSpPr/>
          <p:nvPr/>
        </p:nvGrpSpPr>
        <p:grpSpPr>
          <a:xfrm>
            <a:off x="2843280" y="1792440"/>
            <a:ext cx="4209840" cy="368280"/>
            <a:chOff x="2843280" y="1792440"/>
            <a:chExt cx="4209840" cy="368280"/>
          </a:xfrm>
        </p:grpSpPr>
        <p:sp>
          <p:nvSpPr>
            <p:cNvPr id="557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5"/>
            <p:cNvSpPr/>
            <p:nvPr/>
          </p:nvSpPr>
          <p:spPr>
            <a:xfrm>
              <a:off x="5613480" y="17924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6"/>
          <p:cNvGrpSpPr/>
          <p:nvPr/>
        </p:nvGrpSpPr>
        <p:grpSpPr>
          <a:xfrm>
            <a:off x="3132000" y="4071960"/>
            <a:ext cx="6081840" cy="642600"/>
            <a:chOff x="3132000" y="4071960"/>
            <a:chExt cx="6081840" cy="642600"/>
          </a:xfrm>
        </p:grpSpPr>
        <p:sp>
          <p:nvSpPr>
            <p:cNvPr id="560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"/>
            <p:cNvSpPr/>
            <p:nvPr/>
          </p:nvSpPr>
          <p:spPr>
            <a:xfrm>
              <a:off x="5732280" y="4071960"/>
              <a:ext cx="348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r>
                <a:rPr b="1" lang="es-ES_tradnl" sz="1800" spc="-1" strike="noStrike">
                  <a:solidFill>
                    <a:srgbClr val="953735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ABSORCIÓN DE NUTR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9"/>
          <p:cNvGrpSpPr/>
          <p:nvPr/>
        </p:nvGrpSpPr>
        <p:grpSpPr>
          <a:xfrm>
            <a:off x="3564000" y="3521160"/>
            <a:ext cx="3587760" cy="368280"/>
            <a:chOff x="3564000" y="3521160"/>
            <a:chExt cx="3587760" cy="368280"/>
          </a:xfrm>
        </p:grpSpPr>
        <p:sp>
          <p:nvSpPr>
            <p:cNvPr id="563" name="Line 10"/>
            <p:cNvSpPr/>
            <p:nvPr/>
          </p:nvSpPr>
          <p:spPr>
            <a:xfrm>
              <a:off x="3564000" y="3789360"/>
              <a:ext cx="215532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712120" y="35211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12"/>
          <p:cNvSpPr/>
          <p:nvPr/>
        </p:nvSpPr>
        <p:spPr>
          <a:xfrm>
            <a:off x="2263680" y="71280"/>
            <a:ext cx="59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- Absorción - Metabo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¿Dónde ocurr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5381640" y="485784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567" name="14 Flecha abajo"/>
          <p:cNvSpPr/>
          <p:nvPr/>
        </p:nvSpPr>
        <p:spPr>
          <a:xfrm>
            <a:off x="6357960" y="464328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6" descr="https://encrypted-tbn0.gstatic.com/images?q=tbn:ANd9GcQ_mMqCoWoHOwqRncCnMIO8eT93NL-zO_OqykfExUwFU-QjzTjT"/>
          <p:cNvPicPr/>
          <p:nvPr/>
        </p:nvPicPr>
        <p:blipFill>
          <a:blip r:embed="rId3"/>
          <a:stretch/>
        </p:blipFill>
        <p:spPr>
          <a:xfrm>
            <a:off x="7358040" y="481644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573" name="17 Flecha derecha"/>
          <p:cNvSpPr/>
          <p:nvPr/>
        </p:nvSpPr>
        <p:spPr>
          <a:xfrm>
            <a:off x="6500880" y="5715000"/>
            <a:ext cx="157140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25 CuadroTexto"/>
          <p:cNvSpPr/>
          <p:nvPr/>
        </p:nvSpPr>
        <p:spPr>
          <a:xfrm>
            <a:off x="6217920" y="5857920"/>
            <a:ext cx="225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26220"/>
                </a:solidFill>
                <a:latin typeface="Arial"/>
              </a:rPr>
              <a:t>METABO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26220"/>
                </a:solidFill>
                <a:latin typeface="Arial"/>
              </a:rPr>
              <a:t>(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26220"/>
                </a:solidFill>
                <a:latin typeface="Arial"/>
              </a:rPr>
              <a:t>Degrad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26 CuadroTexto"/>
          <p:cNvSpPr/>
          <p:nvPr/>
        </p:nvSpPr>
        <p:spPr>
          <a:xfrm>
            <a:off x="6153120" y="5661000"/>
            <a:ext cx="2265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0"/>
          <p:cNvSpPr/>
          <p:nvPr/>
        </p:nvSpPr>
        <p:spPr>
          <a:xfrm>
            <a:off x="3190680" y="60213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900000" y="189000"/>
            <a:ext cx="6985080" cy="120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0" bIns="40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BOHIDRATOS DE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1"/>
          <p:cNvSpPr/>
          <p:nvPr/>
        </p:nvSpPr>
        <p:spPr>
          <a:xfrm>
            <a:off x="627480" y="2133720"/>
            <a:ext cx="19897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i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2"/>
          <p:cNvSpPr/>
          <p:nvPr/>
        </p:nvSpPr>
        <p:spPr>
          <a:xfrm>
            <a:off x="2771640" y="198900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3"/>
          <p:cNvSpPr/>
          <p:nvPr/>
        </p:nvSpPr>
        <p:spPr>
          <a:xfrm>
            <a:off x="610920" y="3933720"/>
            <a:ext cx="17701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2556000" y="357336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"/>
          <p:cNvSpPr/>
          <p:nvPr/>
        </p:nvSpPr>
        <p:spPr>
          <a:xfrm>
            <a:off x="555120" y="5516640"/>
            <a:ext cx="22456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6"/>
          <p:cNvSpPr/>
          <p:nvPr/>
        </p:nvSpPr>
        <p:spPr>
          <a:xfrm>
            <a:off x="2916360" y="5230800"/>
            <a:ext cx="360360" cy="1150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3135240" y="1844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Almi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8"/>
          <p:cNvSpPr/>
          <p:nvPr/>
        </p:nvSpPr>
        <p:spPr>
          <a:xfrm>
            <a:off x="4594680" y="184464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granos, harinas, tubércul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4"/>
          <p:cNvSpPr/>
          <p:nvPr/>
        </p:nvSpPr>
        <p:spPr>
          <a:xfrm>
            <a:off x="3061440" y="26370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lucóg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9"/>
          <p:cNvSpPr/>
          <p:nvPr/>
        </p:nvSpPr>
        <p:spPr>
          <a:xfrm>
            <a:off x="4643280" y="263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2917800" y="34290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Sacar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4736880" y="3357720"/>
            <a:ext cx="33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utas, azúcar de me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l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2917440" y="43657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Lact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4"/>
          <p:cNvSpPr/>
          <p:nvPr/>
        </p:nvSpPr>
        <p:spPr>
          <a:xfrm>
            <a:off x="4523040" y="43657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e y de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3277800" y="51577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l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3204360" y="558972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7"/>
          <p:cNvSpPr/>
          <p:nvPr/>
        </p:nvSpPr>
        <p:spPr>
          <a:xfrm>
            <a:off x="4938480" y="515772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utas, miel, golosin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2" descr="Resultado de imagen para alimentos con azúcares"/>
          <p:cNvPicPr/>
          <p:nvPr/>
        </p:nvPicPr>
        <p:blipFill>
          <a:blip r:embed="rId1"/>
          <a:stretch/>
        </p:blipFill>
        <p:spPr>
          <a:xfrm>
            <a:off x="5072040" y="5715000"/>
            <a:ext cx="1416240" cy="785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4" descr="Resultado de imagen para alimentos con azúcares"/>
          <p:cNvPicPr/>
          <p:nvPr/>
        </p:nvPicPr>
        <p:blipFill>
          <a:blip r:embed="rId2"/>
          <a:stretch/>
        </p:blipFill>
        <p:spPr>
          <a:xfrm>
            <a:off x="6500880" y="5651640"/>
            <a:ext cx="2714400" cy="1135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8" descr="Resultado de imagen para alimentos con lactosa"/>
          <p:cNvPicPr/>
          <p:nvPr/>
        </p:nvPicPr>
        <p:blipFill>
          <a:blip r:embed="rId3"/>
          <a:stretch/>
        </p:blipFill>
        <p:spPr>
          <a:xfrm>
            <a:off x="7000920" y="4172040"/>
            <a:ext cx="1428840" cy="97164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3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4" descr="Resultado de imagen para alimentos con sacarosa"/>
          <p:cNvPicPr/>
          <p:nvPr/>
        </p:nvPicPr>
        <p:blipFill>
          <a:blip r:embed="rId4"/>
          <a:stretch/>
        </p:blipFill>
        <p:spPr>
          <a:xfrm>
            <a:off x="8001000" y="3335400"/>
            <a:ext cx="1143000" cy="87948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3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4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2" descr="Resultado de imagen para alimentos con almidón"/>
          <p:cNvPicPr/>
          <p:nvPr/>
        </p:nvPicPr>
        <p:blipFill>
          <a:blip r:embed="rId5"/>
          <a:stretch/>
        </p:blipFill>
        <p:spPr>
          <a:xfrm>
            <a:off x="6975360" y="2230560"/>
            <a:ext cx="1700280" cy="11271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1" descr=""/>
          <p:cNvPicPr/>
          <p:nvPr/>
        </p:nvPicPr>
        <p:blipFill>
          <a:blip r:embed="rId6"/>
          <a:stretch/>
        </p:blipFill>
        <p:spPr>
          <a:xfrm>
            <a:off x="5767560" y="2637000"/>
            <a:ext cx="1233360" cy="8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2316240" y="285840"/>
            <a:ext cx="6827760" cy="59022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502800" y="142920"/>
            <a:ext cx="377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olisacárido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6"/>
          <p:cNvGrpSpPr/>
          <p:nvPr/>
        </p:nvGrpSpPr>
        <p:grpSpPr>
          <a:xfrm>
            <a:off x="2428920" y="662040"/>
            <a:ext cx="3714840" cy="3510360"/>
            <a:chOff x="2428920" y="662040"/>
            <a:chExt cx="3714840" cy="3510360"/>
          </a:xfrm>
        </p:grpSpPr>
        <p:sp>
          <p:nvSpPr>
            <p:cNvPr id="609" name="Text Box 4"/>
            <p:cNvSpPr/>
            <p:nvPr/>
          </p:nvSpPr>
          <p:spPr>
            <a:xfrm>
              <a:off x="2714760" y="662040"/>
              <a:ext cx="2786040" cy="64260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Cloroplasto  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 Almidón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5"/>
            <p:cNvSpPr/>
            <p:nvPr/>
          </p:nvSpPr>
          <p:spPr>
            <a:xfrm>
              <a:off x="2428920" y="3591000"/>
              <a:ext cx="3714840" cy="58140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Mitocondria</a:t>
              </a:r>
              <a:r>
                <a:rPr b="1" lang="es-ES_tradnl" sz="1600" spc="-1" strike="noStrike">
                  <a:solidFill>
                    <a:srgbClr val="c0504d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Glucógeno </a:t>
              </a: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(gránulos)</a:t>
              </a: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       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7"/>
          <p:cNvSpPr/>
          <p:nvPr/>
        </p:nvSpPr>
        <p:spPr>
          <a:xfrm>
            <a:off x="5084280" y="6000840"/>
            <a:ext cx="36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822cd"/>
                </a:solidFill>
                <a:latin typeface="Arial"/>
              </a:rPr>
              <a:t>% Ramificación: amilopectina 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822cd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1822cd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1822cd"/>
                </a:solidFill>
                <a:latin typeface="Arial"/>
              </a:rPr>
              <a:t>glucógeno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9" descr="Imagen relacionada"/>
          <p:cNvPicPr/>
          <p:nvPr/>
        </p:nvPicPr>
        <p:blipFill>
          <a:blip r:embed="rId2"/>
          <a:stretch/>
        </p:blipFill>
        <p:spPr>
          <a:xfrm>
            <a:off x="285840" y="4572000"/>
            <a:ext cx="2071440" cy="1441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1" descr="Imagen relacionada"/>
          <p:cNvPicPr/>
          <p:nvPr/>
        </p:nvPicPr>
        <p:blipFill>
          <a:blip r:embed="rId3"/>
          <a:stretch/>
        </p:blipFill>
        <p:spPr>
          <a:xfrm>
            <a:off x="214200" y="1643040"/>
            <a:ext cx="1643040" cy="8589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3" descr="Resultado de imagen para espinacas y acelgas"/>
          <p:cNvPicPr/>
          <p:nvPr/>
        </p:nvPicPr>
        <p:blipFill>
          <a:blip r:embed="rId4"/>
          <a:stretch/>
        </p:blipFill>
        <p:spPr>
          <a:xfrm>
            <a:off x="500040" y="2571840"/>
            <a:ext cx="1643040" cy="815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7" descr="Resultado de imagen para granos de cereales"/>
          <p:cNvPicPr/>
          <p:nvPr/>
        </p:nvPicPr>
        <p:blipFill>
          <a:blip r:embed="rId5"/>
          <a:stretch/>
        </p:blipFill>
        <p:spPr>
          <a:xfrm>
            <a:off x="142920" y="285840"/>
            <a:ext cx="2214360" cy="14288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4"/>
          <p:cNvSpPr/>
          <p:nvPr/>
        </p:nvSpPr>
        <p:spPr>
          <a:xfrm>
            <a:off x="2428920" y="2786040"/>
            <a:ext cx="1857240" cy="520200"/>
          </a:xfrm>
          <a:prstGeom prst="rect">
            <a:avLst/>
          </a:prstGeom>
          <a:solidFill>
            <a:srgbClr val="f8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2357280" y="5572080"/>
            <a:ext cx="2214720" cy="520200"/>
          </a:xfrm>
          <a:prstGeom prst="rect">
            <a:avLst/>
          </a:prstGeom>
          <a:solidFill>
            <a:srgbClr val="f8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5643720" y="3000240"/>
            <a:ext cx="1357200" cy="520200"/>
          </a:xfrm>
          <a:prstGeom prst="rect">
            <a:avLst/>
          </a:prstGeom>
          <a:solidFill>
            <a:srgbClr val="f8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Amilosa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7500960" y="3000240"/>
            <a:ext cx="1357200" cy="520200"/>
          </a:xfrm>
          <a:prstGeom prst="rect">
            <a:avLst/>
          </a:prstGeom>
          <a:solidFill>
            <a:srgbClr val="f8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Amilopectina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9" descr="Imagen relacionada"/>
          <p:cNvPicPr/>
          <p:nvPr/>
        </p:nvPicPr>
        <p:blipFill>
          <a:blip r:embed="rId6"/>
          <a:stretch/>
        </p:blipFill>
        <p:spPr>
          <a:xfrm>
            <a:off x="438120" y="4724280"/>
            <a:ext cx="20718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2462040" y="355680"/>
            <a:ext cx="42710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lmidón y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10"/>
          <p:cNvGrpSpPr/>
          <p:nvPr/>
        </p:nvGrpSpPr>
        <p:grpSpPr>
          <a:xfrm>
            <a:off x="2356920" y="2857680"/>
            <a:ext cx="6138000" cy="2786040"/>
            <a:chOff x="2356920" y="2857680"/>
            <a:chExt cx="6138000" cy="2786040"/>
          </a:xfrm>
        </p:grpSpPr>
        <p:sp>
          <p:nvSpPr>
            <p:cNvPr id="625" name="Text Box 3"/>
            <p:cNvSpPr/>
            <p:nvPr/>
          </p:nvSpPr>
          <p:spPr>
            <a:xfrm>
              <a:off x="7012080" y="3429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8"/>
            <p:cNvSpPr/>
            <p:nvPr/>
          </p:nvSpPr>
          <p:spPr>
            <a:xfrm>
              <a:off x="2356920" y="2857680"/>
              <a:ext cx="147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9"/>
            <p:cNvSpPr/>
            <p:nvPr/>
          </p:nvSpPr>
          <p:spPr>
            <a:xfrm>
              <a:off x="707220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635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15 Conector recto de flecha"/>
          <p:cNvCxnSpPr>
            <a:stCxn id="641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3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4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5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" descr="1 aparato digestivo"/>
          <p:cNvPicPr/>
          <p:nvPr/>
        </p:nvPicPr>
        <p:blipFill>
          <a:blip r:embed="rId1"/>
          <a:stretch/>
        </p:blipFill>
        <p:spPr>
          <a:xfrm>
            <a:off x="155520" y="765000"/>
            <a:ext cx="5056200" cy="5905800"/>
          </a:xfrm>
          <a:prstGeom prst="rect">
            <a:avLst/>
          </a:prstGeom>
          <a:ln w="0">
            <a:noFill/>
          </a:ln>
        </p:spPr>
      </p:pic>
      <p:sp>
        <p:nvSpPr>
          <p:cNvPr id="647" name="Line 5"/>
          <p:cNvSpPr/>
          <p:nvPr/>
        </p:nvSpPr>
        <p:spPr>
          <a:xfrm>
            <a:off x="2627280" y="1989000"/>
            <a:ext cx="2808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5363640" y="1773360"/>
            <a:ext cx="224424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Amilasa sal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(Ptialin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6"/>
          <p:cNvSpPr/>
          <p:nvPr/>
        </p:nvSpPr>
        <p:spPr>
          <a:xfrm>
            <a:off x="2987640" y="5084640"/>
            <a:ext cx="24480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5448600" y="4724280"/>
            <a:ext cx="2923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Amilasa pancre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Disacarid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3132000" y="4292640"/>
            <a:ext cx="23767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5511240" y="3741840"/>
            <a:ext cx="2020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pH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á</a:t>
            </a: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ci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inactiva la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50920" y="115920"/>
            <a:ext cx="8893080" cy="110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Digestión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¿Qué enzimas partici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7"/>
          <p:cNvSpPr/>
          <p:nvPr/>
        </p:nvSpPr>
        <p:spPr>
          <a:xfrm>
            <a:off x="395280" y="176688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8"/>
          <p:cNvSpPr/>
          <p:nvPr/>
        </p:nvSpPr>
        <p:spPr>
          <a:xfrm>
            <a:off x="3635280" y="38545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TOM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9"/>
          <p:cNvSpPr/>
          <p:nvPr/>
        </p:nvSpPr>
        <p:spPr>
          <a:xfrm>
            <a:off x="73080" y="47181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0"/>
          <p:cNvSpPr/>
          <p:nvPr/>
        </p:nvSpPr>
        <p:spPr>
          <a:xfrm>
            <a:off x="3529080" y="522288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179280" y="364500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Soporte</cp:lastModifiedBy>
  <dcterms:modified xsi:type="dcterms:W3CDTF">2017-08-31T20:43:17Z</dcterms:modified>
  <cp:revision>208</cp:revision>
  <dc:subject/>
  <dc:title>Diapositiva 1</dc:title>
</cp:coreProperties>
</file>